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A00-8784-491A-A39C-41F0FE23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9F24-9503-491B-BA90-B87C8056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B85-2174-4CF0-96B5-D279FDB3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520-9829-41BD-AE78-77F40B77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3C9A-BF01-46C7-90B8-7C23E796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09A-924D-400E-8098-237DD004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DE4-271C-4042-A97E-D5F44EAC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A20-9119-4D4E-A1F0-6E5BE114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95B-E878-4237-A111-E6EFBC54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876-6963-4D5E-9C20-18ADC687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9E0-485E-4056-BF15-12573FAC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2BEF-EF33-480C-96AC-237B09BE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37AD-B801-4E5A-B94C-05DA6AFF18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4CF9-129C-4EBA-890F-5D3613EDF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34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R </a:t>
            </a:r>
            <a:r>
              <a:rPr b="0" lang="en-US" sz="9600" spc="-1" strike="noStrike">
                <a:solidFill>
                  <a:srgbClr val="ffc000"/>
                </a:solidFill>
                <a:latin typeface="Calibri"/>
              </a:rPr>
              <a:t>vs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 O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Bandit Thinkhamrop, PhD (Statistic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Department of Biostatistics and Demograph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Faculty of Public Heal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Khon Kaen Univers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572F-CCCC-4D71-9781-D75530A53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isk vs Protective effect for OR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Rare ev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294920"/>
            <a:ext cx="87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bability of event among group A = 4% vs B = 2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, odds of finding group A having event = </a:t>
            </a:r>
            <a:r>
              <a:rPr b="0" lang="en-US" sz="3000" spc="-1" strike="noStrike">
                <a:solidFill>
                  <a:srgbClr val="008080"/>
                </a:solidFill>
                <a:latin typeface="Calibri"/>
              </a:rPr>
              <a:t>0.04/0.96 = 0.0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vs </a:t>
            </a:r>
            <a:r>
              <a:rPr b="0" lang="en-US" sz="3000" spc="-1" strike="noStrike">
                <a:solidFill>
                  <a:srgbClr val="008080"/>
                </a:solidFill>
                <a:latin typeface="Calibri"/>
              </a:rPr>
              <a:t>B = 0.02/0.98 = 0.0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OR (A/B)= 2; OR (B/A) = 0.5</a:t>
            </a:r>
            <a:r>
              <a:rPr b="0" lang="th-TH" sz="3000" spc="-1" strike="noStrike">
                <a:solidFill>
                  <a:srgbClr val="000000"/>
                </a:solidFill>
                <a:latin typeface="Calibri"/>
                <a:ea typeface="Cordia New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 taking reciprocal 1/2 = 0.5 vs 1/0.5 =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ich one is correc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is 2 times risk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as much a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dds of finding group A having the event is 2 times that of the corresponding odds of group 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dds of group A having the event is 100%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mor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an … 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dds of group B having the event is 50%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les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an … 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613080" y="6031080"/>
            <a:ext cx="556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s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ll are correct; </a:t>
            </a:r>
            <a:r>
              <a:rPr b="0" lang="en-US" sz="2800" spc="-1" strike="noStrike">
                <a:solidFill>
                  <a:srgbClr val="008080"/>
                </a:solidFill>
                <a:latin typeface="Calibri"/>
              </a:rPr>
              <a:t>Note that RR = 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915E-36CD-4FA2-8694-0DDF5C921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traight Connector 5"/>
          <p:cNvSpPr/>
          <p:nvPr/>
        </p:nvSpPr>
        <p:spPr>
          <a:xfrm>
            <a:off x="380880" y="3352680"/>
            <a:ext cx="84582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isk vs Protective effect for OR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Common ev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294920"/>
            <a:ext cx="87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bability of event among group A = 80% vs B = 40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, odds of finding group A having event = </a:t>
            </a:r>
            <a:r>
              <a:rPr b="0" lang="en-US" sz="3000" spc="-1" strike="noStrike">
                <a:solidFill>
                  <a:srgbClr val="008080"/>
                </a:solidFill>
                <a:latin typeface="Calibri"/>
              </a:rPr>
              <a:t>0.8/0.2 = 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vs </a:t>
            </a:r>
            <a:r>
              <a:rPr b="0" lang="en-US" sz="3000" spc="-1" strike="noStrike">
                <a:solidFill>
                  <a:srgbClr val="008080"/>
                </a:solidFill>
                <a:latin typeface="Calibri"/>
              </a:rPr>
              <a:t>B = 0.4/0.6 = 0.6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OR (A/B)= 6; OR (B/A) = 0.17</a:t>
            </a:r>
            <a:r>
              <a:rPr b="0" lang="th-TH" sz="3000" spc="-1" strike="noStrike">
                <a:solidFill>
                  <a:srgbClr val="000000"/>
                </a:solidFill>
                <a:latin typeface="Calibri"/>
                <a:ea typeface="Cordia New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 taking reciprocal 1/6 = 0.17 vs 1/0.17 =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ich one is correc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is 6 times risk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as much a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dds of finding group A having the event is 6 times that of the corresponding odds of group 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dds of group A having the event is 600%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mor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an … 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dds of group B having the event is 83%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les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an … 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621720" y="6031080"/>
            <a:ext cx="67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s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2, 3, and 4 are correct ; </a:t>
            </a:r>
            <a:r>
              <a:rPr b="0" lang="en-US" sz="2800" spc="-1" strike="noStrike">
                <a:solidFill>
                  <a:srgbClr val="008080"/>
                </a:solidFill>
                <a:latin typeface="Calibri"/>
              </a:rPr>
              <a:t>Note that RR =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3BBB-10DC-49D5-9CEE-013DA6DF2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6"/>
          <p:cNvSpPr/>
          <p:nvPr/>
        </p:nvSpPr>
        <p:spPr>
          <a:xfrm>
            <a:off x="380880" y="3352680"/>
            <a:ext cx="84582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between Risk ratio and Odds rat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8284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m = Risk of dead in male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f = Risk of dead in femal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.5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.25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.75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.25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.80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.20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.90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.10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4FD4-58CC-45D9-9BB2-03D7F5530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R very much depends of baseline ris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the OR does n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21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32000" indent="-4320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: Risk of dead = 1% vs Risk of survival = 9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: Odds of dead = 0.01 vs Odds of survival = 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: Risk of dead = 2% vs Risk of survival = 9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: Odds of dead = 0.02 vs Odds of survival = 4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-A: Absolute increase = 1% vs decrease 1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-A: Absolute increase = 0.01 vs decrease 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B-A)/B: Relative increase = 100% vs decrease 10.1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B-A/B: Relative increase = 100% vs decrease 50.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/A: Risk ratio of dead = 2 vs Risk ratio of survival = 0.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/A: Odds ratio of dead = 2 vs Odds ratio of survival = 0.4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iprocal of RR = 0.5 vs Reciprocal of RR = 1.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ciprocal of OR = 0.5     vs Reciprocal of OR = 2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ounded Rectangle 5"/>
          <p:cNvSpPr/>
          <p:nvPr/>
        </p:nvSpPr>
        <p:spPr>
          <a:xfrm>
            <a:off x="7010280" y="6095880"/>
            <a:ext cx="60984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ounded Rectangle 6"/>
          <p:cNvSpPr/>
          <p:nvPr/>
        </p:nvSpPr>
        <p:spPr>
          <a:xfrm>
            <a:off x="3657600" y="6095880"/>
            <a:ext cx="609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DF10-B63F-4E86-9558-66958E917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R vs OR by Incidence of the outc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5052960"/>
          </a:xfrm>
          <a:prstGeom prst="rect">
            <a:avLst/>
          </a:prstGeom>
          <a:ln w="0">
            <a:noFill/>
          </a:ln>
        </p:spPr>
      </p:pic>
      <p:sp>
        <p:nvSpPr>
          <p:cNvPr id="14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37BD-615C-476B-9EC5-AD7D52CDA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en can odds ratios mislea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uw Talfryn Oakley Davies, Iain Kinloch Crombie, Manouche Tavakol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MJ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LUME 316 28 MARCH 1998 page 98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57200" y="177156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ifference between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odds rati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relative ris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epends on the risks (or odds) in both group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dds ratios may be non­intuitive in interpretation, but in almost all realistic cases interpreting them as though they were relative risks is unlikely to change any qualitative assessment of the study finding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dds ratio will always overstate the case when interpreted as a relative risk, and the degree of overstatement will increase as both the initial risk increases and the size of any treatment effect increas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, there is no point at which the degree of over­ statement is likely to lead to qualitatively different judgments about the stud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tantial discrepancies between the odds ratio and the relative risk are seen only when the effect sizes are large and the initial risk is hig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Whether a large increase or a large decrease in risk is indicated, our judgments are likely to be the same—they are important eff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C642-3B02-4B92-984A-FBB8B6149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hang &amp; Yu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TextBox 3" descr=""/>
          <p:cNvPicPr/>
          <p:nvPr/>
        </p:nvPicPr>
        <p:blipFill>
          <a:blip r:embed="rId1"/>
          <a:stretch/>
        </p:blipFill>
        <p:spPr>
          <a:xfrm>
            <a:off x="1231920" y="1219320"/>
            <a:ext cx="7296120" cy="434628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4" descr=""/>
          <p:cNvPicPr/>
          <p:nvPr/>
        </p:nvPicPr>
        <p:blipFill>
          <a:blip r:embed="rId2"/>
          <a:stretch/>
        </p:blipFill>
        <p:spPr>
          <a:xfrm>
            <a:off x="1298520" y="5724360"/>
            <a:ext cx="6559560" cy="76860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1003-E104-4B73-8D7A-F222DFC33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ounded Rectangle 5"/>
          <p:cNvSpPr/>
          <p:nvPr/>
        </p:nvSpPr>
        <p:spPr>
          <a:xfrm>
            <a:off x="1066680" y="4952880"/>
            <a:ext cx="6629400" cy="614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hang &amp; Yu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380880" y="1589040"/>
            <a:ext cx="80773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6256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authors argued the method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6256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simplifications and error in some sit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6256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lid when presentation of interaction effect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[Louise-Anne McNutt, Jean-Paul Hafner, Xiaonan Xue. JAMA. 1999;282(6):529]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46256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lid in high incidence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[Louise-Anne McNutt, Chuntao Wu, Xiaonan Xue, and Jean Paul Hafner. AJE 157, No.10, P.940-943 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256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256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Adjusted RR using  log-binomial regression, or Poisson regression with robust vari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9515-36E8-41FD-8269-B099B41F4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a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R has a more natural interpretation but cannot be calculated from a cross-sectional and case-control stu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any research, there are two ways to calculate R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OR treats both side of event symmetrically and suitable for any study desig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pretation OR requires cautions, in particular, a study involving common eve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00C5-B4BC-4919-9B52-7243923AA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bsolute vs Relative effec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62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of event among group A = 4% vs B = 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ne is corr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is 2% points greater than B</a:t>
            </a:r>
            <a:r>
              <a:rPr b="0" lang="th-TH" sz="28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 </a:t>
            </a:r>
            <a:r>
              <a:rPr b="0" lang="th-TH" sz="2800" spc="-1" strike="noStrike">
                <a:solidFill>
                  <a:srgbClr val="000000"/>
                </a:solidFill>
                <a:latin typeface="Calibri"/>
                <a:cs typeface="Cordia New"/>
              </a:rPr>
              <a:t>มากกว่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th-TH" sz="2800" spc="-1" strike="noStrike">
                <a:solidFill>
                  <a:srgbClr val="000000"/>
                </a:solidFill>
                <a:latin typeface="Calibri"/>
                <a:cs typeface="Cordia New"/>
              </a:rPr>
              <a:t>อยู่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is one time greater than B (A </a:t>
            </a:r>
            <a:r>
              <a:rPr b="0" lang="th-TH" sz="2800" spc="-1" strike="noStrike">
                <a:solidFill>
                  <a:srgbClr val="000000"/>
                </a:solidFill>
                <a:latin typeface="Calibri"/>
                <a:cs typeface="Cordia New"/>
              </a:rPr>
              <a:t>มากกว่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th-TH" sz="2800" spc="-1" strike="noStrike">
                <a:solidFill>
                  <a:srgbClr val="000000"/>
                </a:solidFill>
                <a:latin typeface="Calibri"/>
                <a:cs typeface="Cordia New"/>
              </a:rPr>
              <a:t>หนึ่งเท่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is two times greater than B</a:t>
            </a:r>
            <a:r>
              <a:rPr b="0" lang="th-TH" sz="28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 </a:t>
            </a:r>
            <a:r>
              <a:rPr b="0" lang="th-TH" sz="2800" spc="-1" strike="noStrike">
                <a:solidFill>
                  <a:srgbClr val="000000"/>
                </a:solidFill>
                <a:latin typeface="Calibri"/>
                <a:cs typeface="Cordia New"/>
              </a:rPr>
              <a:t>มากกว่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th-TH" sz="2800" spc="-1" strike="noStrike">
                <a:solidFill>
                  <a:srgbClr val="000000"/>
                </a:solidFill>
                <a:latin typeface="Calibri"/>
                <a:cs typeface="Cordia New"/>
              </a:rPr>
              <a:t>สองเท่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is two times as much as B (A </a:t>
            </a:r>
            <a:r>
              <a:rPr b="0" lang="th-TH" sz="2800" spc="-1" strike="noStrike">
                <a:solidFill>
                  <a:srgbClr val="000000"/>
                </a:solidFill>
                <a:latin typeface="Calibri"/>
                <a:cs typeface="Cordia New"/>
              </a:rPr>
              <a:t>เป็นสองเท่าขอ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833760" y="5486400"/>
            <a:ext cx="344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s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1, 2, 4 are 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DA02-AFED-4871-AF48-94B5AC429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ve risk (RR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R = P1/P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R = Risk of event in group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R = a/(a+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645560" y="2540160"/>
            <a:ext cx="407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of event in group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5"/>
          <p:cNvSpPr/>
          <p:nvPr/>
        </p:nvSpPr>
        <p:spPr>
          <a:xfrm>
            <a:off x="1630440" y="2666880"/>
            <a:ext cx="410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74880" y="3470400"/>
          <a:ext cx="5121000" cy="1584360"/>
        </p:xfrm>
        <a:graphic>
          <a:graphicData uri="http://schemas.openxmlformats.org/drawingml/2006/table">
            <a:tbl>
              <a:tblPr/>
              <a:tblGrid>
                <a:gridCol w="1726920"/>
                <a:gridCol w="1068480"/>
                <a:gridCol w="1046160"/>
                <a:gridCol w="1279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+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expo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+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+b+c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DA8E-DC03-45D9-A5A0-81CD0BCEA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607760" y="5562720"/>
            <a:ext cx="13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/(c+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8"/>
          <p:cNvSpPr/>
          <p:nvPr/>
        </p:nvSpPr>
        <p:spPr>
          <a:xfrm>
            <a:off x="1782720" y="5638680"/>
            <a:ext cx="117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dds ratio (OR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= [P1/(1-P1)] / [P2/(1-P2)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=    Odds of Exposed group having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= [a/(a+b)/(1-(a/(a+b)))] = a/b  = 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1654200" y="2540160"/>
            <a:ext cx="70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ds of Non-exposed group having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5"/>
          <p:cNvSpPr/>
          <p:nvPr/>
        </p:nvSpPr>
        <p:spPr>
          <a:xfrm>
            <a:off x="1630440" y="2666880"/>
            <a:ext cx="698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74880" y="3292560"/>
          <a:ext cx="5121000" cy="1584360"/>
        </p:xfrm>
        <a:graphic>
          <a:graphicData uri="http://schemas.openxmlformats.org/drawingml/2006/table">
            <a:tbl>
              <a:tblPr/>
              <a:tblGrid>
                <a:gridCol w="1726920"/>
                <a:gridCol w="1068480"/>
                <a:gridCol w="1046160"/>
                <a:gridCol w="1279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+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expo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+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+b+c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1" name="TextBox 7"/>
          <p:cNvSpPr/>
          <p:nvPr/>
        </p:nvSpPr>
        <p:spPr>
          <a:xfrm>
            <a:off x="1671120" y="5664240"/>
            <a:ext cx="39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/(c+d)/(1-(c/(c+d)))]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8"/>
          <p:cNvSpPr/>
          <p:nvPr/>
        </p:nvSpPr>
        <p:spPr>
          <a:xfrm>
            <a:off x="1749600" y="5715000"/>
            <a:ext cx="366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5739840" y="563868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/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12"/>
          <p:cNvSpPr/>
          <p:nvPr/>
        </p:nvSpPr>
        <p:spPr>
          <a:xfrm>
            <a:off x="5735520" y="5715000"/>
            <a:ext cx="73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6786000" y="5638680"/>
            <a:ext cx="5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14"/>
          <p:cNvSpPr/>
          <p:nvPr/>
        </p:nvSpPr>
        <p:spPr>
          <a:xfrm>
            <a:off x="6781680" y="5715000"/>
            <a:ext cx="733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7537-224D-4A16-91D1-15A9F343D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 approximate RR if event is rare</a:t>
            </a:r>
            <a:br>
              <a:rPr sz="4000"/>
            </a:b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(Rule of thumb: P &lt; 0.1 or 10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R = P1/P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R = Risk of event in group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R = [a/(a+b)] / [c/(c+d)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1645560" y="2540160"/>
            <a:ext cx="407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of event in group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5"/>
          <p:cNvSpPr/>
          <p:nvPr/>
        </p:nvSpPr>
        <p:spPr>
          <a:xfrm>
            <a:off x="1630440" y="2666880"/>
            <a:ext cx="410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74880" y="3352680"/>
          <a:ext cx="5121000" cy="1584360"/>
        </p:xfrm>
        <a:graphic>
          <a:graphicData uri="http://schemas.openxmlformats.org/drawingml/2006/table">
            <a:tbl>
              <a:tblPr/>
              <a:tblGrid>
                <a:gridCol w="1726920"/>
                <a:gridCol w="1068480"/>
                <a:gridCol w="1046160"/>
                <a:gridCol w="1279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+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expo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+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+b+c+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3" name="TextBox 7"/>
          <p:cNvSpPr/>
          <p:nvPr/>
        </p:nvSpPr>
        <p:spPr>
          <a:xfrm>
            <a:off x="621720" y="5664240"/>
            <a:ext cx="49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rare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-&gt; (a+b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;  (c+d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8"/>
          <p:cNvSpPr/>
          <p:nvPr/>
        </p:nvSpPr>
        <p:spPr>
          <a:xfrm>
            <a:off x="6269040" y="5638680"/>
            <a:ext cx="89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6392880" y="5105520"/>
            <a:ext cx="68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6405120" y="5511960"/>
            <a:ext cx="6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5794560" y="533412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3311-F777-4268-B517-21958C72D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erpretation of relative risk (RR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R = 1 means there is no difference in risk between the two grou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R &lt; 1 means the event is less likely to occur in the experimental group than in the control gro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R &gt; 1 means the event is more likely to occur in the experimental group than in the control gro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AA39-2E7C-4839-988B-DBD41FE9F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922D-D15E-4522-B1C5-3188AC275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est plot for RR or 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900000" y="5838840"/>
            <a:ext cx="7559640" cy="190440"/>
          </a:xfrm>
          <a:custGeom>
            <a:avLst/>
            <a:gdLst/>
            <a:ahLst/>
            <a:rect l="l" t="t" r="r" b="b"/>
            <a:pathLst>
              <a:path w="4762" h="120">
                <a:moveTo>
                  <a:pt x="0" y="70"/>
                </a:moveTo>
                <a:lnTo>
                  <a:pt x="234" y="69"/>
                </a:lnTo>
                <a:lnTo>
                  <a:pt x="294" y="0"/>
                </a:lnTo>
                <a:lnTo>
                  <a:pt x="255" y="120"/>
                </a:lnTo>
                <a:lnTo>
                  <a:pt x="324" y="66"/>
                </a:lnTo>
                <a:lnTo>
                  <a:pt x="4762" y="7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5"/>
          <p:cNvSpPr/>
          <p:nvPr/>
        </p:nvSpPr>
        <p:spPr>
          <a:xfrm>
            <a:off x="900000" y="587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11280" y="576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45964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932360" y="141300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754520" y="602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3995640" y="5950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5867280" y="5950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2987640" y="5950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6804000" y="5950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7740720" y="5950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2050920" y="5950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5694120" y="60148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6630480" y="60213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7603920" y="60213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3657600" y="601488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.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2621160" y="602136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.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21"/>
          <p:cNvSpPr/>
          <p:nvPr/>
        </p:nvSpPr>
        <p:spPr>
          <a:xfrm>
            <a:off x="1714680" y="602136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.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5186160" y="141120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Minimum meaningful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Group 23"/>
          <p:cNvGrpSpPr/>
          <p:nvPr/>
        </p:nvGrpSpPr>
        <p:grpSpPr>
          <a:xfrm>
            <a:off x="5148360" y="4229280"/>
            <a:ext cx="936360" cy="287280"/>
            <a:chOff x="5148360" y="4229280"/>
            <a:chExt cx="936360" cy="287280"/>
          </a:xfrm>
        </p:grpSpPr>
        <p:sp>
          <p:nvSpPr>
            <p:cNvPr id="104" name="Line 24"/>
            <p:cNvSpPr/>
            <p:nvPr/>
          </p:nvSpPr>
          <p:spPr>
            <a:xfrm>
              <a:off x="5148360" y="4371840"/>
              <a:ext cx="93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ine 25"/>
            <p:cNvSpPr/>
            <p:nvPr/>
          </p:nvSpPr>
          <p:spPr>
            <a:xfrm>
              <a:off x="5148360" y="430200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>
              <a:off x="6084720" y="430056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AutoShape 27"/>
            <p:cNvSpPr/>
            <p:nvPr/>
          </p:nvSpPr>
          <p:spPr>
            <a:xfrm>
              <a:off x="5585040" y="4229280"/>
              <a:ext cx="62640" cy="28728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28"/>
          <p:cNvGrpSpPr/>
          <p:nvPr/>
        </p:nvGrpSpPr>
        <p:grpSpPr>
          <a:xfrm>
            <a:off x="6313320" y="3076560"/>
            <a:ext cx="1800360" cy="287280"/>
            <a:chOff x="6313320" y="3076560"/>
            <a:chExt cx="1800360" cy="287280"/>
          </a:xfrm>
        </p:grpSpPr>
        <p:sp>
          <p:nvSpPr>
            <p:cNvPr id="109" name="Line 29"/>
            <p:cNvSpPr/>
            <p:nvPr/>
          </p:nvSpPr>
          <p:spPr>
            <a:xfrm>
              <a:off x="6313320" y="3219120"/>
              <a:ext cx="180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Line 30"/>
            <p:cNvSpPr/>
            <p:nvPr/>
          </p:nvSpPr>
          <p:spPr>
            <a:xfrm>
              <a:off x="6313320" y="314928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31"/>
            <p:cNvSpPr/>
            <p:nvPr/>
          </p:nvSpPr>
          <p:spPr>
            <a:xfrm>
              <a:off x="8113680" y="314784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AutoShape 32"/>
            <p:cNvSpPr/>
            <p:nvPr/>
          </p:nvSpPr>
          <p:spPr>
            <a:xfrm>
              <a:off x="7153200" y="3076560"/>
              <a:ext cx="120240" cy="28728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 Box 39"/>
          <p:cNvSpPr/>
          <p:nvPr/>
        </p:nvSpPr>
        <p:spPr>
          <a:xfrm>
            <a:off x="834480" y="2997360"/>
            <a:ext cx="37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 BMI of mother (3.20; 2.50 to 4.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40"/>
          <p:cNvSpPr/>
          <p:nvPr/>
        </p:nvSpPr>
        <p:spPr>
          <a:xfrm>
            <a:off x="376560" y="543888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ective eff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1"/>
          <p:cNvSpPr/>
          <p:nvPr/>
        </p:nvSpPr>
        <p:spPr>
          <a:xfrm>
            <a:off x="7770960" y="54388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sk eff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2"/>
          <p:cNvSpPr/>
          <p:nvPr/>
        </p:nvSpPr>
        <p:spPr>
          <a:xfrm>
            <a:off x="876960" y="4013280"/>
            <a:ext cx="32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ived ANC (1.60; 1.02 to 2.1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43"/>
          <p:cNvSpPr/>
          <p:nvPr/>
        </p:nvSpPr>
        <p:spPr>
          <a:xfrm>
            <a:off x="6248520" y="1844640"/>
            <a:ext cx="0" cy="4176720"/>
          </a:xfrm>
          <a:prstGeom prst="line">
            <a:avLst/>
          </a:prstGeom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sk vs Protective effect for R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of event among group A = 4% vs B = 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, RR (A/B)= 2; RR (B/A) = 0.5</a:t>
            </a:r>
            <a:r>
              <a:rPr b="0" lang="th-TH" sz="3200" spc="-1" strike="noStrike">
                <a:solidFill>
                  <a:srgbClr val="000000"/>
                </a:solidFill>
                <a:latin typeface="Calibri"/>
                <a:ea typeface="Cordia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taking reciprocal 1/2 = 0.5 vs 1/0.5 =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ne is corr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is 2 times risk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s much 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is 100%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re lik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develop the event than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is 0.5 times risk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s much 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is 50%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ess lik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develop the event than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542880" y="6019920"/>
            <a:ext cx="60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s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All are correct, but 3 could mislea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238E-7631-4E07-8A09-F3F3D4984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ng between Risk and Od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666520" y="12193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10335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sk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d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05 or 5%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05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1 or 10%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2 or 20%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3 or 30%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4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4 or 40%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6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5 or 50%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6 or 60%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7 or 70%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8 or 80%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9 or 90%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95 or 95%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5963-3F17-4493-85A9-E763732DA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03:23:17Z</dcterms:created>
  <dc:creator>MedResNet</dc:creator>
  <dc:description/>
  <dc:language>en-US</dc:language>
  <cp:lastModifiedBy>Bandit Thinkhamrop</cp:lastModifiedBy>
  <dcterms:modified xsi:type="dcterms:W3CDTF">2013-05-15T13:52:20Z</dcterms:modified>
  <cp:revision>97</cp:revision>
  <dc:subject/>
  <dc:title>RR OR HR</dc:title>
</cp:coreProperties>
</file>