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673-EBF2-4EDE-8E7A-73000FF9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376-F82B-4AF2-8558-BD85F13F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0DC-CBAD-4956-A596-11995335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87B-571A-4F54-A220-7F2D6E0E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09DC-2FDF-40BD-B03F-201D3499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C15F-0023-4646-8A52-CEB49E0C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788D-C555-4F48-A12C-1962C27C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C755-D8A2-4245-966F-F1EC50EF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B3E3-6CC1-45B8-BFA0-8CA76703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E811-94A2-43A5-ABAA-CFCB5DF5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C275-AFB7-4C2D-902B-13B2ABE1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D39-6B5E-4660-B540-1E36B5AE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D784-826C-4561-A9A2-67BB2DEF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26FC-3730-4011-894B-37C77A44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1A49-F760-43F7-9C04-C9AF50DB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976C-025C-46C9-AC3D-60AA57FA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9C02-9A9C-4A7A-BCB8-70CCF449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3EC-7185-4678-9942-7A675B27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905E-7931-4833-8BA2-1A5E25EC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0C8-E4B4-4E3B-98F2-5A07D331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E77-819F-447B-9CC3-EA26353E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9A5-6EFC-46CD-88F4-ECF907DF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A12-E657-44E6-B6B5-49E15864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2E25-3873-49DB-934C-230DD64B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0B1F-2C54-4643-AA8D-A3585D0A1B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3A14-53A5-47FE-AEDF-66F7A3E4A3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826920" y="4629240"/>
            <a:ext cx="749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Bandit Thinkhamrop, PhD.(Statis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t. of Biostatistics &amp; Dem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ulty of Public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on Kaen University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320" y="879480"/>
            <a:ext cx="9121680" cy="298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00"/>
                </a:solidFill>
                <a:latin typeface="Arial"/>
              </a:rPr>
              <a:t>Critical Appraisal</a:t>
            </a:r>
            <a:br>
              <a:rPr sz="8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</a:t>
            </a:r>
            <a:br>
              <a:rPr sz="4400"/>
            </a:br>
            <a:r>
              <a:rPr b="0" lang="en-US" sz="5400" spc="-1" strike="noStrike">
                <a:solidFill>
                  <a:srgbClr val="45c984"/>
                </a:solidFill>
                <a:latin typeface="Arial"/>
              </a:rPr>
              <a:t>Health Profession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044F-7964-4BE0-BE58-DD0F1537C5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How large is the effect – 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conclusive or 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magnitude of both lower and upper boundary of the 95%CI with the meaningful level of effe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 conclusive, the CI needs NOT include the meaningful cu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ve findings imply sufficient sample siz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90B-21CD-44C6-A9EC-670533775A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5. How likely is the </a:t>
            </a: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validity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of the magnitude of effect-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ccurate, over or under estimate, questionable, unassess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932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briefly how  the magnitude of effect was obt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how it could be wrong by considering these three iss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ong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Selection b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nformation b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Confounding b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ong analy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Applied inappropriate statistical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or or unclear re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mportant information was not provi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EE9-0146-449E-98C9-AC2D429395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. Can the conclusion be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acceptab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: Yes/No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mechanisms as to how the magnitude of effect could be wrong, if not accep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borate more by describing what position of this evidence in your evidence-base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2CF-6967-47E4-B662-1681E7932E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. How this paper could be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improv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search is perfect – there are rooms to impr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beyond what had been reported in the paper to what should have been done to be better under unlimited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777-1409-4809-AB95-41C0801E30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uggested length of the presentation (15-20 minut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question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1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1-2 sent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itude of effect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 forest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ve?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Yes/No and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ity of the effec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A diagram of the study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A paragraph for brief descriptions of how the magnitude of effect was obtain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Judge if it is accurate, over or under estimate, questionable, or unassess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ptable?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Yes/No and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o improve, if any: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AAD-6742-45F6-9255-6134540D21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research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ques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nsw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the conclu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agnitu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effect being used as the basis of the conclus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arge is the effect –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onclusive or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likely is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valid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magnitude of effect - accurate, over or under estimate, questionable, unassess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he conclusion b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ccept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his paper could be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impro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ACA-950F-410E-823F-97DF67A02F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What is the research 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ques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the research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the primary research question or the one that lead to the main 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predictors of low birth weigh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efficacy of the HIV vacci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99C-2F12-42FA-920E-7F89E62C71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What is the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answ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r the conclus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act the answer to the primary research ques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be obtained from the main conclusion of th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BMI of mother and not received ANC increase risk of low birth we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V vaccine can prevent HIV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B71-273B-4B5C-AA4B-174B94EB89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What is the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magnitud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effect being used as the basis of the conclus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reported, transcribe it. If not, calculate it based on the reported res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s the 95%CI is ess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ize the magnitude of effect as a forest plot-like diagram against the meaningful level is recommend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(95%CI) of each factor on low birth weight : Low BMI of mother (OR: 3.2; 2.50 to 4.50), and not received ANC increase risk of low birth weight (OR: 1.6; 1.02 to 2.1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V vaccine efficacy is 30% (95%CI: 1.1% to 52.2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DF4-E25B-4068-8427-DAFCA78168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Forest plot-like diagram for the Differ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5769000"/>
            <a:ext cx="7559640" cy="304920"/>
          </a:xfrm>
          <a:custGeom>
            <a:avLst/>
            <a:gdLst/>
            <a:ahLst/>
            <a:rect l="l" t="t" r="r" b="b"/>
            <a:pathLst>
              <a:path w="4762" h="192">
                <a:moveTo>
                  <a:pt x="0" y="114"/>
                </a:moveTo>
                <a:lnTo>
                  <a:pt x="234" y="113"/>
                </a:lnTo>
                <a:lnTo>
                  <a:pt x="294" y="44"/>
                </a:lnTo>
                <a:lnTo>
                  <a:pt x="255" y="164"/>
                </a:lnTo>
                <a:lnTo>
                  <a:pt x="324" y="110"/>
                </a:lnTo>
                <a:lnTo>
                  <a:pt x="4529" y="116"/>
                </a:lnTo>
                <a:lnTo>
                  <a:pt x="4565" y="192"/>
                </a:lnTo>
                <a:lnTo>
                  <a:pt x="4567" y="0"/>
                </a:lnTo>
                <a:lnTo>
                  <a:pt x="4597" y="116"/>
                </a:lnTo>
                <a:lnTo>
                  <a:pt x="4762" y="114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45964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2360" y="1413000"/>
            <a:ext cx="0" cy="46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54520" y="602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9564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400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4072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88000" y="601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24360" y="602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97800" y="602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36000" y="60148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9560" y="6021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3080" y="6021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4724280"/>
            <a:ext cx="2160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465444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40720" y="465300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37240" y="4581360"/>
            <a:ext cx="216000" cy="28764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88000" y="3571920"/>
            <a:ext cx="2808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350208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3500280"/>
            <a:ext cx="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7680" y="3429000"/>
            <a:ext cx="129960" cy="287280"/>
          </a:xfrm>
          <a:prstGeom prst="diamond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075280" y="2276640"/>
            <a:ext cx="1297080" cy="287280"/>
            <a:chOff x="5075280" y="2276640"/>
            <a:chExt cx="1297080" cy="287280"/>
          </a:xfrm>
        </p:grpSpPr>
        <p:sp>
          <p:nvSpPr>
            <p:cNvPr id="199" name=""/>
            <p:cNvSpPr/>
            <p:nvPr/>
          </p:nvSpPr>
          <p:spPr>
            <a:xfrm>
              <a:off x="5075280" y="2419200"/>
              <a:ext cx="1297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75280" y="234936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72360" y="234792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0440" y="2276640"/>
              <a:ext cx="86760" cy="28728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86160" y="222408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le (0.9; 0.1 to 1.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6160" y="334980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male (1.4; -0.1 to 2.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3440" y="532116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vor Intervention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59000" y="530064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vor Intervention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6160" y="436572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all (1.8; 0.6 to 3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04000" y="1773360"/>
            <a:ext cx="0" cy="4176720"/>
          </a:xfrm>
          <a:prstGeom prst="line">
            <a:avLst/>
          </a:prstGeom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48040" y="1411200"/>
            <a:ext cx="224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Minimum meaningful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64B-5BBA-45DD-9919-461C1E559E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rest plot-like diagram for 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5838840"/>
            <a:ext cx="7559640" cy="190440"/>
          </a:xfrm>
          <a:custGeom>
            <a:avLst/>
            <a:gdLst/>
            <a:ahLst/>
            <a:rect l="l" t="t" r="r" b="b"/>
            <a:pathLst>
              <a:path w="4762" h="120">
                <a:moveTo>
                  <a:pt x="0" y="70"/>
                </a:moveTo>
                <a:lnTo>
                  <a:pt x="234" y="69"/>
                </a:lnTo>
                <a:lnTo>
                  <a:pt x="294" y="0"/>
                </a:lnTo>
                <a:lnTo>
                  <a:pt x="255" y="120"/>
                </a:lnTo>
                <a:lnTo>
                  <a:pt x="324" y="66"/>
                </a:lnTo>
                <a:lnTo>
                  <a:pt x="4762" y="70"/>
                </a:ln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5877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5769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5964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1413000"/>
            <a:ext cx="0" cy="460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54520" y="602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9564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0400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4072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5950080"/>
            <a:ext cx="0" cy="7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88000" y="6014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24360" y="602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97800" y="60213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6000" y="6014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99560" y="60213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3080" y="60213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69960" y="1411200"/>
            <a:ext cx="224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Minimum meaningful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148360" y="4229280"/>
            <a:ext cx="936360" cy="287280"/>
            <a:chOff x="5148360" y="4229280"/>
            <a:chExt cx="936360" cy="287280"/>
          </a:xfrm>
        </p:grpSpPr>
        <p:sp>
          <p:nvSpPr>
            <p:cNvPr id="231" name=""/>
            <p:cNvSpPr/>
            <p:nvPr/>
          </p:nvSpPr>
          <p:spPr>
            <a:xfrm>
              <a:off x="5148360" y="4371840"/>
              <a:ext cx="936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48360" y="430200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84720" y="430056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85040" y="4229280"/>
              <a:ext cx="62640" cy="28728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313320" y="3076560"/>
            <a:ext cx="1800360" cy="287280"/>
            <a:chOff x="6313320" y="3076560"/>
            <a:chExt cx="1800360" cy="287280"/>
          </a:xfrm>
        </p:grpSpPr>
        <p:sp>
          <p:nvSpPr>
            <p:cNvPr id="236" name=""/>
            <p:cNvSpPr/>
            <p:nvPr/>
          </p:nvSpPr>
          <p:spPr>
            <a:xfrm>
              <a:off x="6313320" y="3219120"/>
              <a:ext cx="180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13320" y="314928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13680" y="314784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53200" y="3076560"/>
              <a:ext cx="120240" cy="28728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686520" y="2997360"/>
            <a:ext cx="40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BMI of mother (3.20; 2.50 to 4.5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5440" y="54388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ive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15520" y="5438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isk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7960" y="4013280"/>
            <a:ext cx="36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d ANC (1.60; 1.02 to 2.1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26280" y="1844640"/>
            <a:ext cx="0" cy="4176720"/>
          </a:xfrm>
          <a:prstGeom prst="line">
            <a:avLst/>
          </a:prstGeom>
          <a:ln cap="rnd" w="936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45F-2B88-4FFF-BB49-BC15B2E9B4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ce the wrong sc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4360" y="1244520"/>
            <a:ext cx="7848360" cy="5232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F17-4486-485B-A389-E40FAE020F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135160" y="477720"/>
            <a:ext cx="5029200" cy="590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F32-FECE-4D3C-B85B-D6374FA91A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3:36:45Z</dcterms:created>
  <dc:creator>John Black</dc:creator>
  <dc:description/>
  <dc:language>en-US</dc:language>
  <cp:lastModifiedBy>BDT</cp:lastModifiedBy>
  <dcterms:modified xsi:type="dcterms:W3CDTF">2011-05-23T01:35:51Z</dcterms:modified>
  <cp:revision>128</cp:revision>
  <dc:subject/>
  <dc:title>Critical Appraisal</dc:title>
</cp:coreProperties>
</file>