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995-A85B-4D74-B654-D98676B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B04-A182-4183-9B4A-487CFEE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F72-5E6B-4978-9F64-186DAB12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A43-FCF2-4D7F-B60E-0209749F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5DA-350F-406A-AED0-75768CE4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3D3F-F950-4C14-8A9C-A80B369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2F12-5A69-447C-97F2-0F591B8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211F-4E73-4C29-809D-AAC505B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5AE3-390C-4E7E-AA49-F3901097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C1BE-6928-455E-9AD3-A777B04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56D-B11A-4A4B-8403-41465F2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CE2-C5DD-4AFE-A48E-4D948F4F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1D9-C6C8-4F63-9B69-6FA371E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5E52-6E02-482F-943F-1FEB18A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944B-21BB-410B-8BE7-D992212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B5F1-8774-4774-9077-F8E4C0F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DF76-5719-4C4B-828D-F634139A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2A4-2D42-49CC-9784-08BAD8B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54E-5BD9-4EE9-B3C1-9B74ED5E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99E-C48D-4C1A-83E2-CDBC8A00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8AB-15B4-474B-82E4-C8344D1B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C78-7BFB-4479-9626-F9AFA5A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3BB-0D73-4A7C-8D1B-191CC667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E1D-7676-45BE-A320-B3B9C89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FDA0-0B9E-4BEC-B097-88CA4211A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9123-CA81-47E5-86AD-12751AD7C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26920" y="4629240"/>
            <a:ext cx="749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Bandit Thinkhamrop, Ph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. of Biostatistics &amp; Dem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on Kaen Universit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320" y="879480"/>
            <a:ext cx="9121680" cy="29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br>
              <a:rPr sz="8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5400" spc="-1" strike="noStrike">
                <a:solidFill>
                  <a:srgbClr val="45c984"/>
                </a:solidFill>
                <a:latin typeface="Arial"/>
              </a:rPr>
              <a:t>Health Profess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6A9-1FF8-4B80-8733-92B7DA20F6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How large is the effect –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magnitude of both lower and upper boundary of the 95%CI with the meaningful level of eff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onclusive, the CI needs NOT include the meaningful cu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ve findings imply sufficient sample 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5DE-EFAC-4383-8079-78D721B0C9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How likely is the </a:t>
            </a: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of the magnitude of effect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ccurate, over or under estimate, questionable, unassess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briefly how  the magnitude of effect was obt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it could be wrong by considering these three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Selec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nforma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Confounding b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Applied inappropriate statistical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or unclear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mportant information was not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F6C-5F53-4BFD-85B5-45B3FA3369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Can the conclusion b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: Yes/No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mechanisms as to how the magnitude of effect could be wrong, if not accep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e more by describing what position of this evidence in your evidence-bas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C5C-9C64-4681-9511-7F88AC28A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How this paper could be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search is perfect – there are rooms to impr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eyond what had been reported in the paper to what should have been done to be better under unlimited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813-0B86-44B1-98E4-9DC1A4812C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uggested length of the presentation (15-20 minut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question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-2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effect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forest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v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of the effec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diagram of the study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paragraph for brief descriptions of how the magnitude of effect was obta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Judge if it is accurate, over or under estimate, questionable, or unasses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improve, if any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2D0-76E2-448B-97E9-8603568E3C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esearch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arge is the effect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ikely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agnitude of effect - accurate, over or under estimate, questionable, unassess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conclusion b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is paper could b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D97-53FB-4A95-BBFA-EBA72D56A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What is the research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primary research question or the one that lead to the main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predictors of low birth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efficacy of the HIV vacc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D02-81D2-4313-8EE1-96B9B075FC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ct the answer to the primary research ques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e obtained from the main conclusion of th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MI of mother and not received ANC increase risk of low birth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 vaccine can prevent HIV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1E4-5930-4B66-BA7F-8436D89AB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ported, transcribe it. If not, calculate it based on the reported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the 95%CI i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the magnitude of effect as a forest plot-like diagram against the meaningful level is recomm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(95%CI) of each factor on low birth weight : Low BMI of mother (OR: 3.2; 2.50 to 4.50), and not received ANC increase risk of low birth weight (OR: 1.6; 1.02 to 2.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V vaccine efficacy is 30% (95%CI: 1.1% to 52.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8E4-E71A-4037-8547-C903BDFEB3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Forest plot-like diagram for the Diffe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769000"/>
            <a:ext cx="7559640" cy="304920"/>
          </a:xfrm>
          <a:custGeom>
            <a:avLst/>
            <a:gdLst/>
            <a:ahLst/>
            <a:rect l="l" t="t" r="r" b="b"/>
            <a:pathLst>
              <a:path w="4762" h="192">
                <a:moveTo>
                  <a:pt x="0" y="114"/>
                </a:moveTo>
                <a:lnTo>
                  <a:pt x="234" y="113"/>
                </a:lnTo>
                <a:lnTo>
                  <a:pt x="294" y="44"/>
                </a:lnTo>
                <a:lnTo>
                  <a:pt x="255" y="164"/>
                </a:lnTo>
                <a:lnTo>
                  <a:pt x="324" y="110"/>
                </a:lnTo>
                <a:lnTo>
                  <a:pt x="4529" y="116"/>
                </a:lnTo>
                <a:lnTo>
                  <a:pt x="4565" y="192"/>
                </a:lnTo>
                <a:lnTo>
                  <a:pt x="4567" y="0"/>
                </a:lnTo>
                <a:lnTo>
                  <a:pt x="4597" y="116"/>
                </a:lnTo>
                <a:lnTo>
                  <a:pt x="4762" y="114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6000" y="6014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956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308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724280"/>
            <a:ext cx="216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654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465300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37240" y="4581360"/>
            <a:ext cx="216000" cy="2876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3571920"/>
            <a:ext cx="2808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502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5002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7680" y="3429000"/>
            <a:ext cx="129960" cy="28728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75280" y="2276640"/>
            <a:ext cx="1297080" cy="287280"/>
            <a:chOff x="5075280" y="2276640"/>
            <a:chExt cx="1297080" cy="287280"/>
          </a:xfrm>
        </p:grpSpPr>
        <p:sp>
          <p:nvSpPr>
            <p:cNvPr id="199" name=""/>
            <p:cNvSpPr/>
            <p:nvPr/>
          </p:nvSpPr>
          <p:spPr>
            <a:xfrm>
              <a:off x="5075280" y="2419200"/>
              <a:ext cx="1297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5280" y="23493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2360" y="23479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0440" y="2276640"/>
              <a:ext cx="8676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6160" y="22240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e (0.9; 0.1 to 1.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6160" y="33498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(1.4; -0.1 to 2.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3440" y="532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59000" y="530064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160" y="436572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all (1.8; 0.6 to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177336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4804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558-F170-4246-B509-53474D7F80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rest plot-like diagram for 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5838840"/>
            <a:ext cx="7559640" cy="190440"/>
          </a:xfrm>
          <a:custGeom>
            <a:avLst/>
            <a:gdLst/>
            <a:ahLst/>
            <a:rect l="l" t="t" r="r" b="b"/>
            <a:pathLst>
              <a:path w="4762" h="120">
                <a:moveTo>
                  <a:pt x="0" y="70"/>
                </a:moveTo>
                <a:lnTo>
                  <a:pt x="234" y="69"/>
                </a:lnTo>
                <a:lnTo>
                  <a:pt x="294" y="0"/>
                </a:lnTo>
                <a:lnTo>
                  <a:pt x="255" y="120"/>
                </a:lnTo>
                <a:lnTo>
                  <a:pt x="324" y="66"/>
                </a:lnTo>
                <a:lnTo>
                  <a:pt x="4762" y="7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877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00" y="6014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956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308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6996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229280"/>
            <a:ext cx="936360" cy="287280"/>
            <a:chOff x="5148360" y="4229280"/>
            <a:chExt cx="936360" cy="287280"/>
          </a:xfrm>
        </p:grpSpPr>
        <p:sp>
          <p:nvSpPr>
            <p:cNvPr id="231" name=""/>
            <p:cNvSpPr/>
            <p:nvPr/>
          </p:nvSpPr>
          <p:spPr>
            <a:xfrm>
              <a:off x="5148360" y="4371840"/>
              <a:ext cx="936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430200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4720" y="43005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85040" y="4229280"/>
              <a:ext cx="626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313320" y="3076560"/>
            <a:ext cx="1800360" cy="287280"/>
            <a:chOff x="6313320" y="3076560"/>
            <a:chExt cx="1800360" cy="287280"/>
          </a:xfrm>
        </p:grpSpPr>
        <p:sp>
          <p:nvSpPr>
            <p:cNvPr id="236" name=""/>
            <p:cNvSpPr/>
            <p:nvPr/>
          </p:nvSpPr>
          <p:spPr>
            <a:xfrm>
              <a:off x="6313320" y="3219120"/>
              <a:ext cx="180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3320" y="314928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3680" y="314784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3200" y="3076560"/>
              <a:ext cx="1202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86520" y="299736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MI of mother (3.20; 2.50 to 4.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440" y="5438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ive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15520" y="5438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401328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d ANC (1.60; 1.02 to 2.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6280" y="184464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99F-B9EC-4633-8BE6-AEF719DDFD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 the wrong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1244520"/>
            <a:ext cx="7848360" cy="523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5C9-3687-48C6-832F-5B69A90850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5160" y="477720"/>
            <a:ext cx="502920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EF4-CBA9-4FDF-8223-92483B79F7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3:36:45Z</dcterms:created>
  <dc:creator>John Black</dc:creator>
  <dc:description/>
  <dc:language>en-US</dc:language>
  <cp:lastModifiedBy>BDT</cp:lastModifiedBy>
  <dcterms:modified xsi:type="dcterms:W3CDTF">2011-05-23T01:35:51Z</dcterms:modified>
  <cp:revision>128</cp:revision>
  <dc:subject/>
  <dc:title>Critical Appraisal</dc:title>
</cp:coreProperties>
</file>