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8F54-92B0-43B6-9535-B1EA81E76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224E-9861-49B7-B8B5-82179EB2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10AA-6E89-475F-A33A-95A631619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3D56-B353-48C8-AD13-19D2470FB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52CE-9214-4480-832D-A070DCBB3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E27C-A67C-4753-8407-EAE2D547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04CE-29B0-447D-A067-5795539A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141D-B3AE-42D0-BED5-0E634B91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44DD-E86A-409C-B206-B31FB080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835D-548F-46DF-AA16-1972C901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427E-5581-4F00-AC8A-ADA99EEF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9DCA-8678-444E-A2EE-615172F8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32BB-04E5-4C08-A30E-3C866C69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D0A7-A06E-4A1B-9E4F-E146AC89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83AB-8647-40BE-B71F-DC73BFCB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1C83-05DA-437D-9761-D72F26D2E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2F72-85AF-4A7F-B044-20E71D3C2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CCDA-967C-4F4D-B533-472DF696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2844-22E3-43C6-9BD2-3B4B63A8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ABEA-ACFC-4426-8C31-5B9815B5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5574-AFCA-46A6-8BC4-5567DA95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8B88-F784-498A-9112-F7EFB5B1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F153-69FB-4C39-B41E-544A250F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CE08-5E56-4A8B-AD51-E3D126C4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A0E8-E50A-43EA-B762-7AE4F909EF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2446-CE09-4556-8D9F-E9C6D0BF77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826920" y="4629240"/>
            <a:ext cx="7490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Bandit Thinkhamrop, PhD.(Statisti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t. of Biostatistics &amp; Demograp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ulty of Public Heal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hon Kaen University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320" y="879480"/>
            <a:ext cx="9121680" cy="298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9900"/>
                </a:solidFill>
                <a:latin typeface="Arial"/>
              </a:rPr>
              <a:t>Critical Appraisal</a:t>
            </a:r>
            <a:br>
              <a:rPr sz="80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 </a:t>
            </a:r>
            <a:br>
              <a:rPr sz="4400"/>
            </a:br>
            <a:r>
              <a:rPr b="0" lang="en-US" sz="5400" spc="-1" strike="noStrike">
                <a:solidFill>
                  <a:srgbClr val="45c984"/>
                </a:solidFill>
                <a:latin typeface="Arial"/>
              </a:rPr>
              <a:t>Health Profession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7856-4534-41AC-866F-E1258B35766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. How large is the effect – </a:t>
            </a: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conclusive or no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 the magnitude of both lower and upper boundary of the 95%CI with the meaningful level of effec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 conclusive, the CI needs NOT include the meaningful cut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ve findings imply sufficient sample siz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1AAB-2A64-4C22-835E-A432C7E57C1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5. How likely is the </a:t>
            </a:r>
            <a:r>
              <a:rPr b="0" lang="en-US" sz="3800" spc="-1" strike="noStrike">
                <a:solidFill>
                  <a:srgbClr val="ff9900"/>
                </a:solidFill>
                <a:latin typeface="Arial"/>
              </a:rPr>
              <a:t>validity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of the magnitude of effect-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accurate, over or under estimate, questionable, unassessab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49320"/>
            <a:ext cx="822960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briefly how  the magnitude of effect was obt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how it could be wrong by considering these three issu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rong dat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Selection b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Information b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Confounding bi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rong analysi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Applied inappropriate statistical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or or unclear repor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Important information was not provi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55BC-5944-4A9D-81AF-84741462F4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. Can the conclusion be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acceptabl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: Yes/No and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the mechanisms as to how the magnitude of effect could be wrong, if not accep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aborate more by describing what position of this evidence in your evidence-base pract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7E3F-7842-416E-89AF-BAE5595FF8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7. How this paper could be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 improve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research is perfect – there are rooms to impro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beyond what had been reported in the paper to what should have been done to be better under unlimited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EB43-74C0-4392-B617-DF405A4566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Suggested length of the presentation (15-20 minute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question: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1 sent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: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1-2 sent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gnitude of effect: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 forest p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ve?: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Yes/No and 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idity of the effec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ff99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A diagram of the study desig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ff99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A paragraph for brief descriptions of how the magnitude of effect was obta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ff99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Judge if it is accurate, over or under estimate, questionable, or unassess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ptable?: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Yes/No and 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ys to improve, if any: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s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76BB-2765-40DB-AA3A-703CB349B7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ore Ques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research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ques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nsw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the conclus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magnitu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effect being used as the basis of the conclus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large is the effect –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onclusive or 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likely is the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valid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magnitude of effect - accurate, over or under estimate, questionable, unassessab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the conclusion be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cceptab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 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his paper could be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improv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BC8C-06A4-45C1-BBC9-77138D7FF9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 What is the research </a:t>
            </a: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questio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the research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on the primary research question or the one that lead to the main 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predictors of low birth weigh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efficacy of the HIV vacci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15D5-3C27-4507-8086-40CCC5CA9D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 What is the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answ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r the conclusio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ract the answer to the primary research ques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be obtained from the main conclusion of the stud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BMI of mother and not received ANC increase risk of low birth w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V vaccine can prevent HIV inf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61CE-7859-46DD-880C-EEF6230013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What is the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magnitud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f effect being used as the basis of the conclusio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850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reported, transcribe it. If not, calculate it based on the reported resul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s the 95%CI is ess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ize the magnitude of effect as a forest plot-like diagram against the meaningful level is recommend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(95%CI) of each factor on low birth weight : Low BMI of mother (OR: 3.2; 2.50 to 4.50), and not received ANC increase risk of low birth weight (OR: 1.6; 1.02 to 2.1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V vaccine efficacy is 30% (95%CI: 1.1% to 52.2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2C60-B163-4CCA-9CDA-4F2362F280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Forest plot-like diagram for the Differe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00000" y="5769000"/>
            <a:ext cx="7559640" cy="304920"/>
          </a:xfrm>
          <a:custGeom>
            <a:avLst/>
            <a:gdLst/>
            <a:ahLst/>
            <a:rect l="l" t="t" r="r" b="b"/>
            <a:pathLst>
              <a:path w="4762" h="192">
                <a:moveTo>
                  <a:pt x="0" y="114"/>
                </a:moveTo>
                <a:lnTo>
                  <a:pt x="234" y="113"/>
                </a:lnTo>
                <a:lnTo>
                  <a:pt x="294" y="44"/>
                </a:lnTo>
                <a:lnTo>
                  <a:pt x="255" y="164"/>
                </a:lnTo>
                <a:lnTo>
                  <a:pt x="324" y="110"/>
                </a:lnTo>
                <a:lnTo>
                  <a:pt x="4529" y="116"/>
                </a:lnTo>
                <a:lnTo>
                  <a:pt x="4565" y="192"/>
                </a:lnTo>
                <a:lnTo>
                  <a:pt x="4567" y="0"/>
                </a:lnTo>
                <a:lnTo>
                  <a:pt x="4597" y="116"/>
                </a:lnTo>
                <a:lnTo>
                  <a:pt x="4762" y="114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459640" y="566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32360" y="1413000"/>
            <a:ext cx="0" cy="460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54520" y="602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95640" y="5950080"/>
            <a:ext cx="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67280" y="5950080"/>
            <a:ext cx="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87640" y="5950080"/>
            <a:ext cx="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04000" y="5950080"/>
            <a:ext cx="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740720" y="5950080"/>
            <a:ext cx="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50920" y="5950080"/>
            <a:ext cx="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88000" y="6014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624360" y="6021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97800" y="6021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636000" y="60148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99560" y="6021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93080" y="6021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9640" y="566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80000" y="4724280"/>
            <a:ext cx="2160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80000" y="465444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40720" y="465300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37240" y="4581360"/>
            <a:ext cx="216000" cy="28764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88000" y="3571920"/>
            <a:ext cx="2808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88000" y="350208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96360" y="350028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97680" y="3429000"/>
            <a:ext cx="129960" cy="28728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075280" y="2276640"/>
            <a:ext cx="1297080" cy="287280"/>
            <a:chOff x="5075280" y="2276640"/>
            <a:chExt cx="1297080" cy="287280"/>
          </a:xfrm>
        </p:grpSpPr>
        <p:sp>
          <p:nvSpPr>
            <p:cNvPr id="199" name=""/>
            <p:cNvSpPr/>
            <p:nvPr/>
          </p:nvSpPr>
          <p:spPr>
            <a:xfrm>
              <a:off x="5075280" y="2419200"/>
              <a:ext cx="12970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75280" y="2349360"/>
              <a:ext cx="0" cy="142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372360" y="2347920"/>
              <a:ext cx="0" cy="142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80440" y="2276640"/>
              <a:ext cx="86760" cy="28728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686160" y="222408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le (0.9; 0.1 to 1.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6160" y="3349800"/>
            <a:ext cx="26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male (1.4; -0.1 to 2.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3440" y="5321160"/>
            <a:ext cx="22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avor Intervention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759000" y="5300640"/>
            <a:ext cx="22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avor Intervention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6160" y="4365720"/>
            <a:ext cx="25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verall (1.8; 0.6 to 3.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04000" y="1773360"/>
            <a:ext cx="0" cy="4176720"/>
          </a:xfrm>
          <a:prstGeom prst="line">
            <a:avLst/>
          </a:prstGeom>
          <a:ln cap="rnd" w="9360">
            <a:solidFill>
              <a:srgbClr val="ff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48040" y="1411200"/>
            <a:ext cx="224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Minimum meaningful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7776-9F59-4D9F-889D-7D5BA76FB9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Forest plot-like diagram for 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00000" y="5838840"/>
            <a:ext cx="7559640" cy="190440"/>
          </a:xfrm>
          <a:custGeom>
            <a:avLst/>
            <a:gdLst/>
            <a:ahLst/>
            <a:rect l="l" t="t" r="r" b="b"/>
            <a:pathLst>
              <a:path w="4762" h="120">
                <a:moveTo>
                  <a:pt x="0" y="70"/>
                </a:moveTo>
                <a:lnTo>
                  <a:pt x="234" y="69"/>
                </a:lnTo>
                <a:lnTo>
                  <a:pt x="294" y="0"/>
                </a:lnTo>
                <a:lnTo>
                  <a:pt x="255" y="120"/>
                </a:lnTo>
                <a:lnTo>
                  <a:pt x="324" y="66"/>
                </a:lnTo>
                <a:lnTo>
                  <a:pt x="4762" y="70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00000" y="587700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1280" y="5769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459640" y="566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1413000"/>
            <a:ext cx="0" cy="460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54520" y="602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95640" y="5950080"/>
            <a:ext cx="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5950080"/>
            <a:ext cx="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87640" y="5950080"/>
            <a:ext cx="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04000" y="5950080"/>
            <a:ext cx="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740720" y="5950080"/>
            <a:ext cx="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50920" y="5950080"/>
            <a:ext cx="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88000" y="6014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624360" y="6021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97800" y="6021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36000" y="60148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99560" y="60213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3080" y="60213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69960" y="1411200"/>
            <a:ext cx="224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Minimum meaningful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148360" y="4229280"/>
            <a:ext cx="936360" cy="287280"/>
            <a:chOff x="5148360" y="4229280"/>
            <a:chExt cx="936360" cy="287280"/>
          </a:xfrm>
        </p:grpSpPr>
        <p:sp>
          <p:nvSpPr>
            <p:cNvPr id="231" name=""/>
            <p:cNvSpPr/>
            <p:nvPr/>
          </p:nvSpPr>
          <p:spPr>
            <a:xfrm>
              <a:off x="5148360" y="4371840"/>
              <a:ext cx="936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48360" y="4302000"/>
              <a:ext cx="0" cy="142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84720" y="4300560"/>
              <a:ext cx="0" cy="142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85040" y="4229280"/>
              <a:ext cx="62640" cy="28728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313320" y="3076560"/>
            <a:ext cx="1800360" cy="287280"/>
            <a:chOff x="6313320" y="3076560"/>
            <a:chExt cx="1800360" cy="287280"/>
          </a:xfrm>
        </p:grpSpPr>
        <p:sp>
          <p:nvSpPr>
            <p:cNvPr id="236" name=""/>
            <p:cNvSpPr/>
            <p:nvPr/>
          </p:nvSpPr>
          <p:spPr>
            <a:xfrm>
              <a:off x="6313320" y="3219120"/>
              <a:ext cx="1800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13320" y="3149280"/>
              <a:ext cx="0" cy="142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13680" y="3147840"/>
              <a:ext cx="0" cy="142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53200" y="3076560"/>
              <a:ext cx="120240" cy="28728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686520" y="2997360"/>
            <a:ext cx="40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BMI of mother (3.20; 2.50 to 4.5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5440" y="543888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ective eff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715520" y="543888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sk eff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7960" y="4013280"/>
            <a:ext cx="36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eived ANC (1.60; 1.02 to 2.18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26280" y="1844640"/>
            <a:ext cx="0" cy="4176720"/>
          </a:xfrm>
          <a:prstGeom prst="line">
            <a:avLst/>
          </a:prstGeom>
          <a:ln cap="rnd" w="9360">
            <a:solidFill>
              <a:srgbClr val="ff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03B8-35E6-4B7A-BEBC-EA74653C49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ice the wrong sca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684360" y="1244520"/>
            <a:ext cx="7848360" cy="5232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F50E-64A9-4D7F-B492-3623D89190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135160" y="477720"/>
            <a:ext cx="5029200" cy="590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2D80-2E8A-4F1A-9441-E207B280B5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3:36:45Z</dcterms:created>
  <dc:creator>John Black</dc:creator>
  <dc:description/>
  <dc:language>en-US</dc:language>
  <cp:lastModifiedBy>BDT</cp:lastModifiedBy>
  <dcterms:modified xsi:type="dcterms:W3CDTF">2011-05-23T01:35:51Z</dcterms:modified>
  <cp:revision>128</cp:revision>
  <dc:subject/>
  <dc:title>Critical Appraisal</dc:title>
</cp:coreProperties>
</file>