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B80-97A3-4C1F-A508-52DEF80F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5A1-7ADC-4A72-AA4D-6C89CE80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65E-0CFD-4396-8E19-27C87C3F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551-CA74-469F-9CBD-1F83F0BD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A2CF-1288-4BA7-91B8-BA60170D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33A1-0A6C-4509-9666-23DEAA15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0636-7C70-4F2A-91A6-982C81CE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F147-FBC4-4A47-BFF5-3CD554F8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71CE-C095-4D26-B535-4D86001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BBA7-796A-4583-B13B-07CF7B2E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7FD5-D57D-4AB1-90D2-9D05DC1E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1B6-9037-42AF-8223-8AB71210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0CFF-B4BE-40E9-95E1-300DED7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C596-037A-4D4B-A067-EE3549BC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477D-9ED1-4912-915E-F2A64584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9565-D4BE-49C5-AEE3-47213AE5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F6B3-305A-4BE8-99D6-B4ED58C7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344-3908-4DDD-8584-4ACB02A5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58B-44D9-4610-95D1-8257B0BC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7B9-73BD-49DA-B5E5-D1DC8A9D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09D-F093-48F8-A4C6-7A32F85D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D0C-DFEE-4F54-AC8C-9B3893B9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A94-0D5C-4959-9B52-EB08288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98D-5E06-4B37-9A2D-2D063938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B65D-CFB5-4D7E-872C-6958B02BE9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FB38-5187-427E-ADB0-0EE5AD86D5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826920" y="4629240"/>
            <a:ext cx="749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Bandit Thinkhamrop, PhD.(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. of Biostatistics &amp; Dem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ulty of 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on Kaen University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320" y="879480"/>
            <a:ext cx="9121680" cy="298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Critical Appraisal</a:t>
            </a:r>
            <a:br>
              <a:rPr sz="8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</a:t>
            </a:r>
            <a:br>
              <a:rPr sz="4400"/>
            </a:br>
            <a:r>
              <a:rPr b="0" lang="en-US" sz="5400" spc="-1" strike="noStrike">
                <a:solidFill>
                  <a:srgbClr val="45c984"/>
                </a:solidFill>
                <a:latin typeface="Arial"/>
              </a:rPr>
              <a:t>Health Professio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A11E-0FFD-4820-9DF0-75B669A29D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How large is the effect –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onclusive or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magnitude of both lower and upper boundary of the 95%CI with the meaningful level of effe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onclusive, the CI needs NOT include the meaningful cu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ve findings imply sufficient sample 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D3F-F76D-404C-8EC9-3D4220CA21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How likely is the </a:t>
            </a: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validity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of the magnitude of effect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ccurate, over or under estimate, questionable, unassess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briefly how  the magnitude of effect was obt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ow it could be wrong by considering these three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ong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Selection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nformation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Confounding b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ong analy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Applied inappropriate statistical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or or unclear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mportant information was not pro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7F8-3531-447B-A072-2E4F83C0ED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Can the conclusion b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cceptab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: Yes/No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mechanisms as to how the magnitude of effect could be wrong, if not accep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borate more by describing what position of this evidence in your evidence-base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ADE-D94B-4A2C-A456-9F0BCCB1A9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How this paper could be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improv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search is perfect – there are rooms to impr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eyond what had been reported in the paper to what should have been done to be better under unlimited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F4F-D5D0-4628-8065-1F9CA806AA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uggested length of the presentation (15-20 minut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question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-2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tude of effect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forest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ve?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es/No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 of the effec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A diagram of the study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A paragraph for brief descriptions of how the magnitude of effect was obta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Judge if it is accurate, over or under estimate, questionable, or unassess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ble?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es/No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improve, if any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BC7-7C7E-4054-A5AE-688F5EFA2F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esearch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s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the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agnitu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effect being used as the basis of the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arge is the effect –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clusive or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ikely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agnitude of effect - accurate, over or under estimate, questionable, unassess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conclusion b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ccep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his paper could b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impro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064-5019-4BDB-ABC1-7571A3604A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What is the research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ques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the primary research question or the one that lead to the main 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predictors of low birth we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efficacy of the HIV vacc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56C-3B8F-4DD5-BAA5-A9BC2ED976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What is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nsw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the conclus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ct the answer to the primary research ques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e obtained from the main conclusion of th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BMI of mother and not received ANC increase risk of low birth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 vaccine can prevent HIV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98F-D660-4CA9-B2C0-BB00498E1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What is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magnitud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effect being used as the basis of the conclus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eported, transcribe it. If not, calculate it based on the reported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the 95%CI is ess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the magnitude of effect as a forest plot-like diagram against the meaningful level is recomm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(95%CI) of each factor on low birth weight : Low BMI of mother (OR: 3.2; 2.50 to 4.50), and not received ANC increase risk of low birth weight (OR: 1.6; 1.02 to 2.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V vaccine efficacy is 30% (95%CI: 1.1% to 52.2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768-42AB-470C-94E7-64365BFCEB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Forest plot-like diagram for the Diffe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769000"/>
            <a:ext cx="7559640" cy="304920"/>
          </a:xfrm>
          <a:custGeom>
            <a:avLst/>
            <a:gdLst/>
            <a:ahLst/>
            <a:rect l="l" t="t" r="r" b="b"/>
            <a:pathLst>
              <a:path w="4762" h="192">
                <a:moveTo>
                  <a:pt x="0" y="114"/>
                </a:moveTo>
                <a:lnTo>
                  <a:pt x="234" y="113"/>
                </a:lnTo>
                <a:lnTo>
                  <a:pt x="294" y="44"/>
                </a:lnTo>
                <a:lnTo>
                  <a:pt x="255" y="164"/>
                </a:lnTo>
                <a:lnTo>
                  <a:pt x="324" y="110"/>
                </a:lnTo>
                <a:lnTo>
                  <a:pt x="4529" y="116"/>
                </a:lnTo>
                <a:lnTo>
                  <a:pt x="4565" y="192"/>
                </a:lnTo>
                <a:lnTo>
                  <a:pt x="4567" y="0"/>
                </a:lnTo>
                <a:lnTo>
                  <a:pt x="4597" y="116"/>
                </a:lnTo>
                <a:lnTo>
                  <a:pt x="4762" y="114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5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1413000"/>
            <a:ext cx="0" cy="46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54520" y="60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407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800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2436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9780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36000" y="60148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9560" y="6021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3080" y="6021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724280"/>
            <a:ext cx="216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46544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465300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37240" y="4581360"/>
            <a:ext cx="216000" cy="2876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3571920"/>
            <a:ext cx="2808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5020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5002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7680" y="3429000"/>
            <a:ext cx="129960" cy="28728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75280" y="2276640"/>
            <a:ext cx="1297080" cy="287280"/>
            <a:chOff x="5075280" y="2276640"/>
            <a:chExt cx="1297080" cy="287280"/>
          </a:xfrm>
        </p:grpSpPr>
        <p:sp>
          <p:nvSpPr>
            <p:cNvPr id="199" name=""/>
            <p:cNvSpPr/>
            <p:nvPr/>
          </p:nvSpPr>
          <p:spPr>
            <a:xfrm>
              <a:off x="5075280" y="2419200"/>
              <a:ext cx="1297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75280" y="234936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2360" y="23479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0440" y="2276640"/>
              <a:ext cx="8676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6160" y="22240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e (0.9; 0.1 to 1.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6160" y="33498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(1.4; -0.1 to 2.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3440" y="532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r Interventio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59000" y="530064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r Interventio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6160" y="436572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all (1.8; 0.6 to 3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04000" y="1773360"/>
            <a:ext cx="0" cy="417672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48040" y="141120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inimum meaningful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C9B-1529-45AF-A51D-563A712763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rest plot-like diagram for 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5838840"/>
            <a:ext cx="7559640" cy="190440"/>
          </a:xfrm>
          <a:custGeom>
            <a:avLst/>
            <a:gdLst/>
            <a:ahLst/>
            <a:rect l="l" t="t" r="r" b="b"/>
            <a:pathLst>
              <a:path w="4762" h="120">
                <a:moveTo>
                  <a:pt x="0" y="70"/>
                </a:moveTo>
                <a:lnTo>
                  <a:pt x="234" y="69"/>
                </a:lnTo>
                <a:lnTo>
                  <a:pt x="294" y="0"/>
                </a:lnTo>
                <a:lnTo>
                  <a:pt x="255" y="120"/>
                </a:lnTo>
                <a:lnTo>
                  <a:pt x="324" y="66"/>
                </a:lnTo>
                <a:lnTo>
                  <a:pt x="4762" y="7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5877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576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5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1413000"/>
            <a:ext cx="0" cy="46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4520" y="60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0400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07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800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436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780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00" y="6014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9560" y="6021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3080" y="6021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69960" y="141120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inimum meaningful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229280"/>
            <a:ext cx="936360" cy="287280"/>
            <a:chOff x="5148360" y="4229280"/>
            <a:chExt cx="936360" cy="287280"/>
          </a:xfrm>
        </p:grpSpPr>
        <p:sp>
          <p:nvSpPr>
            <p:cNvPr id="231" name=""/>
            <p:cNvSpPr/>
            <p:nvPr/>
          </p:nvSpPr>
          <p:spPr>
            <a:xfrm>
              <a:off x="5148360" y="4371840"/>
              <a:ext cx="936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430200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84720" y="430056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85040" y="4229280"/>
              <a:ext cx="6264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313320" y="3076560"/>
            <a:ext cx="1800360" cy="287280"/>
            <a:chOff x="6313320" y="3076560"/>
            <a:chExt cx="1800360" cy="287280"/>
          </a:xfrm>
        </p:grpSpPr>
        <p:sp>
          <p:nvSpPr>
            <p:cNvPr id="236" name=""/>
            <p:cNvSpPr/>
            <p:nvPr/>
          </p:nvSpPr>
          <p:spPr>
            <a:xfrm>
              <a:off x="6313320" y="3219120"/>
              <a:ext cx="180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3320" y="314928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13680" y="314784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3200" y="3076560"/>
              <a:ext cx="12024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86520" y="2997360"/>
            <a:ext cx="40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BMI of mother (3.20; 2.50 to 4.5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5440" y="5438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ive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15520" y="5438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k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" y="401328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d ANC (1.60; 1.02 to 2.1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26280" y="1844640"/>
            <a:ext cx="0" cy="417672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A13-75D2-4114-A68A-C9917BE7C0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ce the wrong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1244520"/>
            <a:ext cx="7848360" cy="523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4B5-6B1C-47BA-83FE-EB3B4C2B06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35160" y="477720"/>
            <a:ext cx="502920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155-AF82-4874-8803-E331C757AB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3:36:45Z</dcterms:created>
  <dc:creator>John Black</dc:creator>
  <dc:description/>
  <dc:language>en-US</dc:language>
  <cp:lastModifiedBy>BDT</cp:lastModifiedBy>
  <dcterms:modified xsi:type="dcterms:W3CDTF">2011-05-23T01:35:51Z</dcterms:modified>
  <cp:revision>128</cp:revision>
  <dc:subject/>
  <dc:title>Critical Appraisal</dc:title>
</cp:coreProperties>
</file>